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17F-AEE1-492A-B37E-814708A96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4C89-19B4-4F84-94DB-8288EFC53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FED4-EE71-458C-A43B-1396A83A2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9C468-0C0C-4DF2-90F2-93ED48202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9C611-3311-4E44-ADD7-A2E91E357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93C8-6AB1-4902-B78D-88C3559BB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8F72-B702-4CB6-81DB-3FCAA215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D6D35-D86D-4DA8-89C1-F68FB9FB6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CD10-0C08-4097-9CC4-04A378407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DDA84-3EA6-43A1-B345-98349B32E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4825E-9CE7-45F7-BEED-E35033D9F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3BDA-7487-41F9-A540-3CA2B166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89B34-B8FC-421C-A671-2E3300E3A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26E41-9262-4362-933A-7EC65683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37E4D-E595-476C-94B4-766832083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DEE7A-AFD3-4AF1-A146-814C2A5F31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53096-52DA-48BF-ADC8-F6E168346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E3BC08-4106-40B1-98A6-1D28705F04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F4D52-78BE-4AFD-B30C-D45827C3A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E0843-0999-4C96-9969-321C6FF61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BFFBE-B8C7-4141-8F7D-CC1B14599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0C48E5-0CD9-48A0-AA8E-F645B467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FFAF-2F1B-41B2-A530-9DD4E6235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4053-9EBD-482A-BA19-672F36D7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5C93DB-3B22-4075-A1FB-9D8D0645A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3F2CC-EA37-4ECE-A002-F76B79668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60CDE5-9E95-4E75-AF40-90237AFF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59A075-713A-444B-909B-13245BA73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2B3532-4AD9-4C1F-A898-C20A3837F7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25EB9A-2E43-4F97-91D5-DA6743A9E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C7FD-1297-494B-BB8B-74A83A8B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503-8B26-4410-A37A-A9C774A71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FED3-3B94-433C-BBA1-8622C6DB6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057DC-2286-4935-AD05-E52C2761C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B3C-C28F-4662-A9F8-A27F5241A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C676-CF07-4916-B1B0-39A15866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3F905-7576-4DD9-AB20-C9CB2A002D6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57442-9708-4459-BCB3-99C16A8713F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2C65-C22D-4A7D-A853-12EA1E08CE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FAE-63A1-41D9-88AD-FB166603DA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4920" y="692280"/>
            <a:ext cx="8134200" cy="179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二章 水、电解质代谢紊乱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258560" y="4797000"/>
            <a:ext cx="70102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张立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1317600" y="2924280"/>
            <a:ext cx="6584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(disturbance of water and electrolyte metabolism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水钠平衡及水钠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A711-0242-495F-B6CA-E567A66B5F5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物质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调节体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润滑作用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E5E5-5F27-4B0A-9343-8D97AB49E0C6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水的生理功能和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000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2500ml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饮水、食物含水和代谢水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5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消化道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粪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皮肤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显性汗和非显性汗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肺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呼吸蒸发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、肾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EABFD-BEDA-42D3-83AD-74D9DD90E88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外液的渗透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神经、肌肉、心肌细胞的动作电位的形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参与新陈代谢和生理功能活动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7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7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26FF3-95E8-40DE-A9EA-99D33C579B07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68360" y="1827360"/>
            <a:ext cx="8215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钠的生理功能和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钠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来源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食盐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肾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多吃多排，少吃少排，不吃不排</a:t>
            </a:r>
            <a:r>
              <a:rPr b="0" lang="zh-CN" sz="2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汗液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50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消化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FFCB6-B064-4C64-8520-7C40F93B6C9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水、钠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11280" y="1844280"/>
            <a:ext cx="8215200" cy="43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三）水钠代谢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渴感中枢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刺激因素：血浆渗透压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抗利尿激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浆渗透压↑，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容量↓，应激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醛固酮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↓</a:t>
            </a:r>
            <a:r>
              <a:rPr b="0" lang="en-US" sz="2700" spc="-1" strike="noStrike">
                <a:solidFill>
                  <a:srgbClr val="ff0066"/>
                </a:solidFill>
                <a:latin typeface="黑体"/>
                <a:ea typeface="华文行楷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Na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↓ 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血</a:t>
            </a:r>
            <a:r>
              <a:rPr b="0" lang="en-US" sz="27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0" lang="en-US" sz="27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+ 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心钠素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7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促释放因素：</a:t>
            </a:r>
            <a:r>
              <a:rPr b="0" lang="zh-CN" sz="2700" spc="-1" strike="noStrike">
                <a:solidFill>
                  <a:srgbClr val="ff0066"/>
                </a:solidFill>
                <a:latin typeface="黑体"/>
                <a:ea typeface="黑体"/>
              </a:rPr>
              <a:t>血容量↑</a:t>
            </a:r>
            <a:r>
              <a:rPr b="0" lang="zh-CN" sz="27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1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1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灯片编号占位符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B848B-B3FE-47C1-953E-2848ED859E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水、钠代谢紊乱的分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1280" y="2852640"/>
            <a:ext cx="72900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水钠代谢紊乱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1692360" y="2565360"/>
            <a:ext cx="287280" cy="2087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54360 h 2087640"/>
              <a:gd name="textAreaBottom" fmla="*/ 2033280 h 2087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1780920" y="3860640"/>
            <a:ext cx="7290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体液容量过多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854000" y="2492280"/>
            <a:ext cx="729000" cy="54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2627280" y="22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"/>
          <p:cNvSpPr/>
          <p:nvPr/>
        </p:nvSpPr>
        <p:spPr>
          <a:xfrm>
            <a:off x="2700360" y="4076640"/>
            <a:ext cx="360360" cy="10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/>
          <p:nvPr/>
        </p:nvSpPr>
        <p:spPr>
          <a:xfrm>
            <a:off x="3059280" y="1989000"/>
            <a:ext cx="42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"/>
          <p:cNvSpPr/>
          <p:nvPr/>
        </p:nvSpPr>
        <p:spPr>
          <a:xfrm>
            <a:off x="3040200" y="2570040"/>
            <a:ext cx="354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3059280" y="3141720"/>
            <a:ext cx="374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"/>
          <p:cNvSpPr/>
          <p:nvPr/>
        </p:nvSpPr>
        <p:spPr>
          <a:xfrm>
            <a:off x="3111480" y="3794040"/>
            <a:ext cx="448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低渗性水过多（水中毒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"/>
          <p:cNvSpPr/>
          <p:nvPr/>
        </p:nvSpPr>
        <p:spPr>
          <a:xfrm>
            <a:off x="3132000" y="4437000"/>
            <a:ext cx="33116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等渗性水过多（水肿）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111480" y="4923000"/>
            <a:ext cx="484524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Verdana"/>
              </a:rPr>
              <a:t>高渗性水过多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1D566-18F9-4FE9-9605-1E3592E736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 algn="just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外液容量明显减少的状态称为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灯片编号占位符 5"/>
          <p:cNvSpPr/>
          <p:nvPr/>
        </p:nvSpPr>
        <p:spPr>
          <a:xfrm>
            <a:off x="6588000" y="587700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15292-CAEC-447C-9179-203EE7600A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0920" y="2205000"/>
            <a:ext cx="8001000" cy="311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失水大于失钠，血清钠高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 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高渗性脱水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1646A-F970-4E40-8AC5-D5928F7D6C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731052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丢失过多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水过多 （尿崩症 ，渗透性利尿 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水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、呼吸道丢失水过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01C61-BD15-444F-9556-27B4EB59DC9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4000" y="380520"/>
            <a:ext cx="8118360" cy="1219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000000"/>
                </a:solidFill>
                <a:latin typeface="Verdana"/>
              </a:rPr>
              <a:t>水与电解质平衡</a:t>
            </a:r>
            <a:br>
              <a:rPr sz="42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Arial"/>
              </a:rPr>
              <a:t>(Water and electrolyte balance)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280" y="2565360"/>
            <a:ext cx="800100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Verdana"/>
              </a:rPr>
              <a:t>体液的容量、化学成分、渗透压和分布保持相对恒定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B4116-33A5-4AFD-84B0-05F529B7D4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内液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，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33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；较少发生休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中枢神经系统功能障碍（脑出血所致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的变化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比重高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钠含量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：轻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，重症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↓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脱水热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E30AF-7AA0-4BDE-9F9D-33C9E019B8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渗性脱水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失钠大于失水，血清钠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30mmol/L,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80 mmol/L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，伴有体液容量减少的病理过程称为低渗性脱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potonic dehydration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188FA-8549-49AE-A98C-033799AEB3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9280" y="55728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皮肤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消化道丢失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经肾丢失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实质性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长期使用排钠利尿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不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9A729-F582-4908-BF94-8D04BCEF47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细胞外液</a:t>
            </a:r>
            <a:r>
              <a:rPr b="0" lang="zh-CN" sz="2900" spc="-1" strike="noStrike">
                <a:solidFill>
                  <a:srgbClr val="ff0000"/>
                </a:solidFill>
                <a:latin typeface="黑体"/>
                <a:ea typeface="黑体"/>
              </a:rPr>
              <a:t>↓↓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，细胞内液</a:t>
            </a:r>
            <a:r>
              <a:rPr b="0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细胞水肿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尿的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量：早期正常，重症病人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尿钠：肾失钠引起者↑，肾外原因引起者↓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休克倾向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明显脱水外貌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口渴不明显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0114C-51BC-4D72-831A-F723C0D2BA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等渗性脱水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39280" y="2204640"/>
            <a:ext cx="8001000" cy="29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与钠等比例丢失，血钠浓度维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渗透压保持在（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～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310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）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伴有体液容量减少的病理过程称为等渗性脱水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isotonic dehydration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26D37-0DF7-4D04-9DBF-C70D58B5B1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9280" y="48420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消化道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经皮肤丢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腔内大量液体贮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1FCE7-25EB-4B01-A550-1221B0EA90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770436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．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细胞外液↓，细胞内液容量无明显变化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口渴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改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休克倾向及脱水外貌介于上述两类之间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四）脱水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防治原发疾病，去除病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液体疗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渗性脱水补高渗溶液为主，等渗性脱水补等渗溶液为主，高渗性脱水补水为主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渗性脱水注意抗休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其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容量过多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水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9280" y="2349360"/>
            <a:ext cx="7893000" cy="326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水在体内大量潴留，并伴有血清钠浓度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3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低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病理过程称为水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water intoxication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一节 水、电解质平衡的调节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肾功能不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泌异常增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急性应激状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些药物的作用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皮质功能低下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分泌不当综合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医源性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98B1D-27D6-49FE-A771-896F6CED1A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74200" y="48420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水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颅内压增高， 脑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2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低钠血症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尿液变化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尿量↓ ，尿钠</a:t>
            </a:r>
            <a:r>
              <a:rPr b="0" lang="zh-CN" sz="3300" spc="-1" strike="noStrike">
                <a:solidFill>
                  <a:srgbClr val="000000"/>
                </a:solidFill>
                <a:latin typeface="黑体"/>
                <a:ea typeface="黑体"/>
              </a:rPr>
              <a:t>↑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体重增加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4000" y="2060280"/>
            <a:ext cx="8001000" cy="33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禁水，加强排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盐中毒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盐中毒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salt poisoning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的特点是血容量和血清钠均增高，血清钠浓度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15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血浆渗透压大于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280mmo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／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医源性盐用量过多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原发性钠潴留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39280" y="2205000"/>
            <a:ext cx="8001000" cy="25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细胞脱水，严重者可引起中枢神经系统功能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盐中毒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1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使用利尿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透析治疗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水肿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过多的液体在组织间隙或体腔积聚称为水肿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dema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在体腔中积聚又被命名为积水（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hydrops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2AB1C-2C18-4113-A7EE-551FE5C36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Text Box 2"/>
          <p:cNvSpPr/>
          <p:nvPr/>
        </p:nvSpPr>
        <p:spPr>
          <a:xfrm>
            <a:off x="115920" y="327672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体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3"/>
          <p:cNvSpPr/>
          <p:nvPr/>
        </p:nvSpPr>
        <p:spPr>
          <a:xfrm>
            <a:off x="1371600" y="228600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Text Box 4"/>
          <p:cNvSpPr/>
          <p:nvPr/>
        </p:nvSpPr>
        <p:spPr>
          <a:xfrm>
            <a:off x="1752480" y="1828800"/>
            <a:ext cx="181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内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Text Box 5"/>
          <p:cNvSpPr/>
          <p:nvPr/>
        </p:nvSpPr>
        <p:spPr>
          <a:xfrm>
            <a:off x="1716120" y="4724280"/>
            <a:ext cx="13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细胞外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20%</a:t>
            </a: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AutoShape 6"/>
          <p:cNvSpPr/>
          <p:nvPr/>
        </p:nvSpPr>
        <p:spPr>
          <a:xfrm>
            <a:off x="2971800" y="4191120"/>
            <a:ext cx="152280" cy="1752480"/>
          </a:xfrm>
          <a:custGeom>
            <a:avLst/>
            <a:gdLst>
              <a:gd name="textAreaLeft" fmla="*/ 97200 w 152280"/>
              <a:gd name="textAreaRight" fmla="*/ 152640 w 15228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5" name="Text Box 7"/>
          <p:cNvSpPr/>
          <p:nvPr/>
        </p:nvSpPr>
        <p:spPr>
          <a:xfrm>
            <a:off x="3336840" y="3906720"/>
            <a:ext cx="159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血浆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Text Box 8"/>
          <p:cNvSpPr/>
          <p:nvPr/>
        </p:nvSpPr>
        <p:spPr>
          <a:xfrm>
            <a:off x="3336840" y="5278320"/>
            <a:ext cx="152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ahoma"/>
              </a:rPr>
              <a:t>组织间液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Text Box 9"/>
          <p:cNvSpPr/>
          <p:nvPr/>
        </p:nvSpPr>
        <p:spPr>
          <a:xfrm>
            <a:off x="3590280" y="5638680"/>
            <a:ext cx="89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水肿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AutoShape 10"/>
          <p:cNvSpPr/>
          <p:nvPr/>
        </p:nvSpPr>
        <p:spPr>
          <a:xfrm>
            <a:off x="4800600" y="5029200"/>
            <a:ext cx="228600" cy="12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" name="Text Box 11"/>
          <p:cNvSpPr/>
          <p:nvPr/>
        </p:nvSpPr>
        <p:spPr>
          <a:xfrm>
            <a:off x="5105520" y="480060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组织间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Text Box 12"/>
          <p:cNvSpPr/>
          <p:nvPr/>
        </p:nvSpPr>
        <p:spPr>
          <a:xfrm>
            <a:off x="5181480" y="5943600"/>
            <a:ext cx="12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Tahoma"/>
              </a:rPr>
              <a:t>体腔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Text Box 13"/>
          <p:cNvSpPr/>
          <p:nvPr/>
        </p:nvSpPr>
        <p:spPr>
          <a:xfrm>
            <a:off x="7010280" y="6019920"/>
            <a:ext cx="109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[</a:t>
            </a:r>
            <a:r>
              <a:rPr b="1" lang="zh-CN" sz="2400" spc="-1" strike="noStrike">
                <a:solidFill>
                  <a:srgbClr val="ff0000"/>
                </a:solidFill>
                <a:latin typeface="Tahoma"/>
              </a:rPr>
              <a:t>积水</a:t>
            </a:r>
            <a:r>
              <a:rPr b="1" lang="en-US" sz="2400" spc="-1" strike="noStrike">
                <a:solidFill>
                  <a:srgbClr val="ff0000"/>
                </a:solidFill>
                <a:latin typeface="Tahoma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Text Box 14"/>
          <p:cNvSpPr/>
          <p:nvPr/>
        </p:nvSpPr>
        <p:spPr>
          <a:xfrm>
            <a:off x="7315200" y="3886200"/>
            <a:ext cx="14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稀血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15"/>
          <p:cNvSpPr/>
          <p:nvPr/>
        </p:nvSpPr>
        <p:spPr>
          <a:xfrm>
            <a:off x="6918480" y="1773360"/>
            <a:ext cx="17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ahoma"/>
              </a:rPr>
              <a:t>细胞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6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DBC6-221C-47B3-9FAD-DD3BFDBDDA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的分类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分布范围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局部水肿， 全身水肿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生部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皮下水肿，脑水肿，肺水肿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…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按发病原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性水肿，肾性水肿，肝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营养不良性水肿，内分泌性水肿，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特发性水肿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9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5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7" dur="500"/>
                                        <p:tgtEl>
                                          <p:spTgt spid="26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26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灯片编号占位符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1C8CB-95EC-47CF-8582-0C136C06714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Text Box 2"/>
          <p:cNvSpPr/>
          <p:nvPr/>
        </p:nvSpPr>
        <p:spPr>
          <a:xfrm>
            <a:off x="395280" y="3645000"/>
            <a:ext cx="183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体液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ody fluid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60%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2411280" y="2781360"/>
            <a:ext cx="432000" cy="2519280"/>
          </a:xfrm>
          <a:custGeom>
            <a:avLst/>
            <a:gdLst>
              <a:gd name="textAreaLeft" fmla="*/ 276120 w 432000"/>
              <a:gd name="textAreaRight" fmla="*/ 432360 w 432000"/>
              <a:gd name="textAreaTop" fmla="*/ 65520 h 2519280"/>
              <a:gd name="textAreaBottom" fmla="*/ 2453760 h 2519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 Box 4"/>
          <p:cNvSpPr/>
          <p:nvPr/>
        </p:nvSpPr>
        <p:spPr>
          <a:xfrm>
            <a:off x="3059280" y="2205000"/>
            <a:ext cx="51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内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intracellular fluid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 Box 6"/>
          <p:cNvSpPr/>
          <p:nvPr/>
        </p:nvSpPr>
        <p:spPr>
          <a:xfrm>
            <a:off x="3995640" y="2781360"/>
            <a:ext cx="21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 Box 7"/>
          <p:cNvSpPr/>
          <p:nvPr/>
        </p:nvSpPr>
        <p:spPr>
          <a:xfrm>
            <a:off x="2843280" y="4292640"/>
            <a:ext cx="194472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细胞外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extracellular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AutoShape 16"/>
          <p:cNvSpPr/>
          <p:nvPr/>
        </p:nvSpPr>
        <p:spPr>
          <a:xfrm>
            <a:off x="4716360" y="4149720"/>
            <a:ext cx="393840" cy="1752480"/>
          </a:xfrm>
          <a:custGeom>
            <a:avLst/>
            <a:gdLst>
              <a:gd name="textAreaLeft" fmla="*/ 251640 w 393840"/>
              <a:gd name="textAreaRight" fmla="*/ 394200 w 39384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17"/>
          <p:cNvSpPr/>
          <p:nvPr/>
        </p:nvSpPr>
        <p:spPr>
          <a:xfrm>
            <a:off x="5064120" y="3854520"/>
            <a:ext cx="339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组织间液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interstitial fluid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18"/>
          <p:cNvSpPr/>
          <p:nvPr/>
        </p:nvSpPr>
        <p:spPr>
          <a:xfrm>
            <a:off x="5076720" y="5229360"/>
            <a:ext cx="3575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血液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plasma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%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体液的容量和分布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F30A2-6F71-4223-9567-83416B04D6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2"/>
          <p:cNvSpPr/>
          <p:nvPr/>
        </p:nvSpPr>
        <p:spPr>
          <a:xfrm>
            <a:off x="1547640" y="1557360"/>
            <a:ext cx="152424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3"/>
          <p:cNvSpPr/>
          <p:nvPr/>
        </p:nvSpPr>
        <p:spPr>
          <a:xfrm>
            <a:off x="3048120" y="1523880"/>
            <a:ext cx="30456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4"/>
          <p:cNvSpPr/>
          <p:nvPr/>
        </p:nvSpPr>
        <p:spPr>
          <a:xfrm>
            <a:off x="3352680" y="1905120"/>
            <a:ext cx="3733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5"/>
          <p:cNvSpPr/>
          <p:nvPr/>
        </p:nvSpPr>
        <p:spPr>
          <a:xfrm>
            <a:off x="7543800" y="1447920"/>
            <a:ext cx="91440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6"/>
          <p:cNvSpPr/>
          <p:nvPr/>
        </p:nvSpPr>
        <p:spPr>
          <a:xfrm flipH="1">
            <a:off x="7086600" y="1447920"/>
            <a:ext cx="45720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7"/>
          <p:cNvSpPr/>
          <p:nvPr/>
        </p:nvSpPr>
        <p:spPr>
          <a:xfrm>
            <a:off x="1752480" y="3657600"/>
            <a:ext cx="12193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Line 8"/>
          <p:cNvSpPr/>
          <p:nvPr/>
        </p:nvSpPr>
        <p:spPr>
          <a:xfrm flipV="1">
            <a:off x="2971800" y="3200400"/>
            <a:ext cx="30492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Line 9"/>
          <p:cNvSpPr/>
          <p:nvPr/>
        </p:nvSpPr>
        <p:spPr>
          <a:xfrm>
            <a:off x="3200400" y="3276720"/>
            <a:ext cx="39625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Line 10"/>
          <p:cNvSpPr/>
          <p:nvPr/>
        </p:nvSpPr>
        <p:spPr>
          <a:xfrm>
            <a:off x="7924680" y="3733920"/>
            <a:ext cx="7621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Line 11"/>
          <p:cNvSpPr/>
          <p:nvPr/>
        </p:nvSpPr>
        <p:spPr>
          <a:xfrm>
            <a:off x="7162920" y="3276720"/>
            <a:ext cx="761760" cy="4572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Oval 12"/>
          <p:cNvSpPr/>
          <p:nvPr/>
        </p:nvSpPr>
        <p:spPr>
          <a:xfrm rot="20070000">
            <a:off x="62485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Oval 13"/>
          <p:cNvSpPr/>
          <p:nvPr/>
        </p:nvSpPr>
        <p:spPr>
          <a:xfrm rot="20070000">
            <a:off x="5867280" y="502884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Oval 14"/>
          <p:cNvSpPr/>
          <p:nvPr/>
        </p:nvSpPr>
        <p:spPr>
          <a:xfrm rot="1492800">
            <a:off x="4191120" y="56386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Oval 15"/>
          <p:cNvSpPr/>
          <p:nvPr/>
        </p:nvSpPr>
        <p:spPr>
          <a:xfrm rot="1492800">
            <a:off x="4572000" y="5029200"/>
            <a:ext cx="16524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Oval 16"/>
          <p:cNvSpPr/>
          <p:nvPr/>
        </p:nvSpPr>
        <p:spPr>
          <a:xfrm rot="1492800">
            <a:off x="51055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Oval 17"/>
          <p:cNvSpPr/>
          <p:nvPr/>
        </p:nvSpPr>
        <p:spPr>
          <a:xfrm rot="20070000">
            <a:off x="5334120" y="4267080"/>
            <a:ext cx="164880" cy="519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Oval 18"/>
          <p:cNvSpPr/>
          <p:nvPr/>
        </p:nvSpPr>
        <p:spPr>
          <a:xfrm>
            <a:off x="1143000" y="1523880"/>
            <a:ext cx="457200" cy="2133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Line 19"/>
          <p:cNvSpPr/>
          <p:nvPr/>
        </p:nvSpPr>
        <p:spPr>
          <a:xfrm>
            <a:off x="1447920" y="3657600"/>
            <a:ext cx="304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Line 20"/>
          <p:cNvSpPr/>
          <p:nvPr/>
        </p:nvSpPr>
        <p:spPr>
          <a:xfrm>
            <a:off x="1371600" y="1523880"/>
            <a:ext cx="38088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Oval 21"/>
          <p:cNvSpPr/>
          <p:nvPr/>
        </p:nvSpPr>
        <p:spPr>
          <a:xfrm>
            <a:off x="1219320" y="1828800"/>
            <a:ext cx="3045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Text Box 22"/>
          <p:cNvSpPr/>
          <p:nvPr/>
        </p:nvSpPr>
        <p:spPr>
          <a:xfrm>
            <a:off x="3809880" y="838080"/>
            <a:ext cx="270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毛细血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Text Box 23"/>
          <p:cNvSpPr/>
          <p:nvPr/>
        </p:nvSpPr>
        <p:spPr>
          <a:xfrm>
            <a:off x="6726240" y="4399200"/>
            <a:ext cx="546120" cy="133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淋巴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Text Box 24"/>
          <p:cNvSpPr/>
          <p:nvPr/>
        </p:nvSpPr>
        <p:spPr>
          <a:xfrm>
            <a:off x="1752480" y="1728720"/>
            <a:ext cx="137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动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Text Box 25"/>
          <p:cNvSpPr/>
          <p:nvPr/>
        </p:nvSpPr>
        <p:spPr>
          <a:xfrm>
            <a:off x="7696080" y="1652760"/>
            <a:ext cx="11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静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Text Box 26"/>
          <p:cNvSpPr/>
          <p:nvPr/>
        </p:nvSpPr>
        <p:spPr>
          <a:xfrm>
            <a:off x="2743200" y="2338560"/>
            <a:ext cx="23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流体静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Text Box 27"/>
          <p:cNvSpPr/>
          <p:nvPr/>
        </p:nvSpPr>
        <p:spPr>
          <a:xfrm>
            <a:off x="5334120" y="2338560"/>
            <a:ext cx="28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胶体渗透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Line 28"/>
          <p:cNvSpPr/>
          <p:nvPr/>
        </p:nvSpPr>
        <p:spPr>
          <a:xfrm>
            <a:off x="327672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Line 29"/>
          <p:cNvSpPr/>
          <p:nvPr/>
        </p:nvSpPr>
        <p:spPr>
          <a:xfrm>
            <a:off x="35812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Line 30"/>
          <p:cNvSpPr/>
          <p:nvPr/>
        </p:nvSpPr>
        <p:spPr>
          <a:xfrm>
            <a:off x="3851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Line 31"/>
          <p:cNvSpPr/>
          <p:nvPr/>
        </p:nvSpPr>
        <p:spPr>
          <a:xfrm>
            <a:off x="4267080" y="3276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0" name="Line 32"/>
          <p:cNvSpPr/>
          <p:nvPr/>
        </p:nvSpPr>
        <p:spPr>
          <a:xfrm flipV="1">
            <a:off x="60958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1" name="Line 33"/>
          <p:cNvSpPr/>
          <p:nvPr/>
        </p:nvSpPr>
        <p:spPr>
          <a:xfrm flipV="1">
            <a:off x="63244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Line 34"/>
          <p:cNvSpPr/>
          <p:nvPr/>
        </p:nvSpPr>
        <p:spPr>
          <a:xfrm flipV="1">
            <a:off x="65530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3" name="Line 35"/>
          <p:cNvSpPr/>
          <p:nvPr/>
        </p:nvSpPr>
        <p:spPr>
          <a:xfrm flipV="1">
            <a:off x="6781680" y="327636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Text Box 36"/>
          <p:cNvSpPr/>
          <p:nvPr/>
        </p:nvSpPr>
        <p:spPr>
          <a:xfrm>
            <a:off x="3133800" y="2708280"/>
            <a:ext cx="174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Text Box 37"/>
          <p:cNvSpPr/>
          <p:nvPr/>
        </p:nvSpPr>
        <p:spPr>
          <a:xfrm>
            <a:off x="5851440" y="2708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Text Box 38"/>
          <p:cNvSpPr/>
          <p:nvPr/>
        </p:nvSpPr>
        <p:spPr>
          <a:xfrm>
            <a:off x="4419720" y="3581280"/>
            <a:ext cx="158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66"/>
                </a:solidFill>
                <a:latin typeface="Times New Roman"/>
              </a:rPr>
              <a:t>(20mmHg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AutoShape 39"/>
          <p:cNvSpPr/>
          <p:nvPr/>
        </p:nvSpPr>
        <p:spPr>
          <a:xfrm>
            <a:off x="4495680" y="3962520"/>
            <a:ext cx="533520" cy="1143000"/>
          </a:xfrm>
          <a:custGeom>
            <a:avLst/>
            <a:gdLst>
              <a:gd name="textAreaLeft" fmla="*/ 71280 w 533520"/>
              <a:gd name="textAreaRight" fmla="*/ 462240 w 53352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8" name="AutoShape 40"/>
          <p:cNvSpPr/>
          <p:nvPr/>
        </p:nvSpPr>
        <p:spPr>
          <a:xfrm>
            <a:off x="5638680" y="4038480"/>
            <a:ext cx="381240" cy="990720"/>
          </a:xfrm>
          <a:custGeom>
            <a:avLst/>
            <a:gdLst>
              <a:gd name="textAreaLeft" fmla="*/ 51120 w 381240"/>
              <a:gd name="textAreaRight" fmla="*/ 330120 w 381240"/>
              <a:gd name="textAreaTop" fmla="*/ 173160 h 990720"/>
              <a:gd name="textAreaBottom" fmla="*/ 71820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AutoShape 41"/>
          <p:cNvSpPr/>
          <p:nvPr/>
        </p:nvSpPr>
        <p:spPr>
          <a:xfrm>
            <a:off x="5181480" y="51814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4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9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E93F-4540-4780-B01C-AC175EAD3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39280" y="549000"/>
            <a:ext cx="8001000" cy="973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影响血管内外液体交换的因素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74200" y="2060280"/>
            <a:ext cx="788508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流体静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血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流体静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(20)                    (-10)             (3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有效胶体渗透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=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渗压</a:t>
            </a: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-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组织间胶渗压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2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5</a:t>
            </a: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）          （</a:t>
            </a:r>
            <a:r>
              <a:rPr b="1" lang="en-US" sz="2600" spc="-1" strike="noStrike">
                <a:solidFill>
                  <a:srgbClr val="ff0066"/>
                </a:solidFill>
                <a:latin typeface="Verdana"/>
              </a:rPr>
              <a:t>10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8" dur="500"/>
                                        <p:tgtEl>
                                          <p:spTgt spid="3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3" dur="500"/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6" dur="500"/>
                                        <p:tgtEl>
                                          <p:spTgt spid="3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1" dur="500"/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1092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血管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毛细血管内流体静压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静脉淤血、阻塞、受压；动脉充血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血浆胶体渗透压下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蛋白质合成↓ ，丧失↑</a:t>
            </a:r>
            <a:r>
              <a:rPr b="0" lang="zh-CN" sz="3100" spc="-1" strike="noStrike">
                <a:solidFill>
                  <a:srgbClr val="000000"/>
                </a:solidFill>
                <a:latin typeface="黑体"/>
                <a:ea typeface="黑体"/>
              </a:rPr>
              <a:t>，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分解↑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微血管壁通透性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炎症 ，过敏 ，其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淋巴回流障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淋巴管阻塞、 摘除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15" name="图片 7" descr="橡皮腿.jpg"/>
          <p:cNvPicPr/>
          <p:nvPr/>
        </p:nvPicPr>
        <p:blipFill>
          <a:blip r:embed="rId2"/>
          <a:stretch/>
        </p:blipFill>
        <p:spPr>
          <a:xfrm>
            <a:off x="6156360" y="2133720"/>
            <a:ext cx="2679840" cy="31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40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血管内外液体交换障碍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组织液的生成 大于回流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r>
              <a:rPr b="1" lang="en-US" sz="3000" spc="-1" strike="noStrike">
                <a:solidFill>
                  <a:srgbClr val="3333ff"/>
                </a:solidFill>
                <a:latin typeface="Verdana"/>
              </a:rPr>
              <a:t>——</a:t>
            </a: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钠水潴留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灯片编号占位符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81C4-34BA-42A5-9FAA-FB31072EB6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肾对钠水的排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66560" y="1413000"/>
            <a:ext cx="8569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肾小球滤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FR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有效滤过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肾小球毛细血管血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（血浆胶渗压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囊内压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小球滤过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通透性  面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肾血流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近曲小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远曲小管、集合管重吸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球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管平衡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球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</a:rPr>
              <a:t>-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管失衡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84720" y="2708280"/>
            <a:ext cx="2702160" cy="36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0" dur="500"/>
                                        <p:tgtEl>
                                          <p:spTgt spid="3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3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8" dur="500"/>
                                        <p:tgtEl>
                                          <p:spTgt spid="3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3" dur="500"/>
                                        <p:tgtEl>
                                          <p:spTgt spid="3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8" dur="500"/>
                                        <p:tgtEl>
                                          <p:spTgt spid="3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3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8" dur="500"/>
                                        <p:tgtEl>
                                          <p:spTgt spid="3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3" dur="500"/>
                                        <p:tgtEl>
                                          <p:spTgt spid="3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3333ff"/>
                </a:solidFill>
                <a:latin typeface="Verdana"/>
              </a:rPr>
              <a:t>体内外液体交换障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球滤过率下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球病变致肾小球滤过面积明显↓；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有效循环血量明显↓致肾血流量↓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小管重吸收增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滤过分数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FF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增加 ，钠水平衡调节激素改变（醛固酮↑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DH 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↑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，心钠素↓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血流重分布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灯片编号占位符 4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C1560-DEAB-4479-A42F-2AFACD5F3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Text Box 2"/>
          <p:cNvSpPr/>
          <p:nvPr/>
        </p:nvSpPr>
        <p:spPr>
          <a:xfrm>
            <a:off x="471600" y="2133720"/>
            <a:ext cx="546120" cy="26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交感神经兴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6" name="AutoShape 3"/>
          <p:cNvSpPr/>
          <p:nvPr/>
        </p:nvSpPr>
        <p:spPr>
          <a:xfrm>
            <a:off x="990720" y="2286000"/>
            <a:ext cx="228600" cy="12952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Text Box 4"/>
          <p:cNvSpPr/>
          <p:nvPr/>
        </p:nvSpPr>
        <p:spPr>
          <a:xfrm>
            <a:off x="1355760" y="2098800"/>
            <a:ext cx="184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入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Line 5"/>
          <p:cNvSpPr/>
          <p:nvPr/>
        </p:nvSpPr>
        <p:spPr>
          <a:xfrm>
            <a:off x="3200400" y="2362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3870360" y="2092320"/>
            <a:ext cx="221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Text Box 7"/>
          <p:cNvSpPr/>
          <p:nvPr/>
        </p:nvSpPr>
        <p:spPr>
          <a:xfrm>
            <a:off x="1258920" y="3276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出球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收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Line 8"/>
          <p:cNvSpPr/>
          <p:nvPr/>
        </p:nvSpPr>
        <p:spPr>
          <a:xfrm>
            <a:off x="3276720" y="35053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Text Box 9"/>
          <p:cNvSpPr/>
          <p:nvPr/>
        </p:nvSpPr>
        <p:spPr>
          <a:xfrm>
            <a:off x="3946680" y="3159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滤过压</a:t>
            </a:r>
            <a:r>
              <a:rPr b="1" lang="zh-CN" sz="2400" spc="-1" strike="noStrike">
                <a:solidFill>
                  <a:srgbClr val="ff0066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3" name="AutoShape 10"/>
          <p:cNvSpPr/>
          <p:nvPr/>
        </p:nvSpPr>
        <p:spPr>
          <a:xfrm>
            <a:off x="5867280" y="2286000"/>
            <a:ext cx="457200" cy="1371600"/>
          </a:xfrm>
          <a:custGeom>
            <a:avLst/>
            <a:gdLst>
              <a:gd name="textAreaLeft" fmla="*/ 0 w 457200"/>
              <a:gd name="textAreaRight" fmla="*/ 164880 w 4572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Text Box 11"/>
          <p:cNvSpPr/>
          <p:nvPr/>
        </p:nvSpPr>
        <p:spPr>
          <a:xfrm>
            <a:off x="6553080" y="2514600"/>
            <a:ext cx="233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FR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/RB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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Line 12"/>
          <p:cNvSpPr/>
          <p:nvPr/>
        </p:nvSpPr>
        <p:spPr>
          <a:xfrm>
            <a:off x="7543800" y="3124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Text Box 13"/>
          <p:cNvSpPr/>
          <p:nvPr/>
        </p:nvSpPr>
        <p:spPr>
          <a:xfrm>
            <a:off x="7162920" y="3809880"/>
            <a:ext cx="12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Line 14"/>
          <p:cNvSpPr/>
          <p:nvPr/>
        </p:nvSpPr>
        <p:spPr>
          <a:xfrm>
            <a:off x="754380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8" name="Text Box 15"/>
          <p:cNvSpPr/>
          <p:nvPr/>
        </p:nvSpPr>
        <p:spPr>
          <a:xfrm>
            <a:off x="4800600" y="46483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管周围血浆胶体渗透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流体静压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Line 16"/>
          <p:cNvSpPr/>
          <p:nvPr/>
        </p:nvSpPr>
        <p:spPr>
          <a:xfrm>
            <a:off x="7543800" y="55627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Text Box 17"/>
          <p:cNvSpPr/>
          <p:nvPr/>
        </p:nvSpPr>
        <p:spPr>
          <a:xfrm>
            <a:off x="6019920" y="5943600"/>
            <a:ext cx="27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钠水重吸收增多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Text Box 18"/>
          <p:cNvSpPr/>
          <p:nvPr/>
        </p:nvSpPr>
        <p:spPr>
          <a:xfrm>
            <a:off x="1619280" y="476280"/>
            <a:ext cx="534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F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升高的机制及作用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0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5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0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5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0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5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5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灯片编号占位符 4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95AB5-46FF-4735-8D74-1FB66C61A1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水肿发生机制小结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289080" y="3602160"/>
            <a:ext cx="100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水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1219320" y="2819520"/>
            <a:ext cx="473040" cy="2554200"/>
          </a:xfrm>
          <a:custGeom>
            <a:avLst/>
            <a:gdLst>
              <a:gd name="textAreaLeft" fmla="*/ 302400 w 473040"/>
              <a:gd name="textAreaRight" fmla="*/ 473400 w 473040"/>
              <a:gd name="textAreaTop" fmla="*/ 66600 h 2554200"/>
              <a:gd name="textAreaBottom" fmla="*/ 2487600 h 2554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Text Box 5"/>
          <p:cNvSpPr/>
          <p:nvPr/>
        </p:nvSpPr>
        <p:spPr>
          <a:xfrm>
            <a:off x="1676520" y="2209680"/>
            <a:ext cx="1815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组织液生成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于回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1619280" y="5229360"/>
            <a:ext cx="188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钠水潴留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AutoShape 7"/>
          <p:cNvSpPr/>
          <p:nvPr/>
        </p:nvSpPr>
        <p:spPr>
          <a:xfrm>
            <a:off x="3352680" y="1905120"/>
            <a:ext cx="457200" cy="1295280"/>
          </a:xfrm>
          <a:custGeom>
            <a:avLst/>
            <a:gdLst>
              <a:gd name="textAreaLeft" fmla="*/ 292320 w 457200"/>
              <a:gd name="textAreaRight" fmla="*/ 457560 w 45720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9" name="Text Box 8"/>
          <p:cNvSpPr/>
          <p:nvPr/>
        </p:nvSpPr>
        <p:spPr>
          <a:xfrm>
            <a:off x="3809880" y="1676520"/>
            <a:ext cx="429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流体静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Text Box 9"/>
          <p:cNvSpPr/>
          <p:nvPr/>
        </p:nvSpPr>
        <p:spPr>
          <a:xfrm>
            <a:off x="4677120" y="2133720"/>
            <a:ext cx="280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血浆胶体渗透压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（血浆蛋白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Text Box 10"/>
          <p:cNvSpPr/>
          <p:nvPr/>
        </p:nvSpPr>
        <p:spPr>
          <a:xfrm>
            <a:off x="3780000" y="25909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毛细血管通透性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2987640" y="4221000"/>
            <a:ext cx="504720" cy="2376720"/>
          </a:xfrm>
          <a:custGeom>
            <a:avLst/>
            <a:gdLst>
              <a:gd name="textAreaLeft" fmla="*/ 322560 w 504720"/>
              <a:gd name="textAreaRight" fmla="*/ 505080 w 504720"/>
              <a:gd name="textAreaTop" fmla="*/ 61920 h 2376720"/>
              <a:gd name="textAreaBottom" fmla="*/ 2314800 h 237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Text Box 12"/>
          <p:cNvSpPr/>
          <p:nvPr/>
        </p:nvSpPr>
        <p:spPr>
          <a:xfrm>
            <a:off x="3598200" y="3844800"/>
            <a:ext cx="10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Times New Roman"/>
              </a:rPr>
              <a:t>GFR</a:t>
            </a:r>
            <a:r>
              <a:rPr b="0" lang="en-US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cc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AutoShape 13"/>
          <p:cNvSpPr/>
          <p:nvPr/>
        </p:nvSpPr>
        <p:spPr>
          <a:xfrm>
            <a:off x="4572000" y="3581280"/>
            <a:ext cx="228600" cy="762120"/>
          </a:xfrm>
          <a:custGeom>
            <a:avLst/>
            <a:gdLst>
              <a:gd name="textAreaLeft" fmla="*/ 146160 w 228600"/>
              <a:gd name="textAreaRight" fmla="*/ 228960 w 22860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Text Box 14"/>
          <p:cNvSpPr/>
          <p:nvPr/>
        </p:nvSpPr>
        <p:spPr>
          <a:xfrm>
            <a:off x="4861080" y="3463920"/>
            <a:ext cx="31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滤过面积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Text Box 15"/>
          <p:cNvSpPr/>
          <p:nvPr/>
        </p:nvSpPr>
        <p:spPr>
          <a:xfrm>
            <a:off x="4861080" y="399744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肾血流量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Text Box 16"/>
          <p:cNvSpPr/>
          <p:nvPr/>
        </p:nvSpPr>
        <p:spPr>
          <a:xfrm>
            <a:off x="3581280" y="4572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Text Box 17"/>
          <p:cNvSpPr/>
          <p:nvPr/>
        </p:nvSpPr>
        <p:spPr>
          <a:xfrm>
            <a:off x="3348000" y="4941720"/>
            <a:ext cx="144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小管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重吸收</a:t>
            </a:r>
            <a:r>
              <a:rPr b="1" lang="zh-CN" sz="2400" spc="-1" strike="noStrike">
                <a:solidFill>
                  <a:srgbClr val="0000cc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AutoShape 18"/>
          <p:cNvSpPr/>
          <p:nvPr/>
        </p:nvSpPr>
        <p:spPr>
          <a:xfrm>
            <a:off x="4572000" y="5084640"/>
            <a:ext cx="360360" cy="792360"/>
          </a:xfrm>
          <a:custGeom>
            <a:avLst/>
            <a:gdLst>
              <a:gd name="textAreaLeft" fmla="*/ 230400 w 360360"/>
              <a:gd name="textAreaRight" fmla="*/ 360720 w 360360"/>
              <a:gd name="textAreaTop" fmla="*/ 20520 h 792360"/>
              <a:gd name="textAreaBottom" fmla="*/ 77184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Text Box 20"/>
          <p:cNvSpPr/>
          <p:nvPr/>
        </p:nvSpPr>
        <p:spPr>
          <a:xfrm>
            <a:off x="5034600" y="4724280"/>
            <a:ext cx="7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FF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AutoShape 22"/>
          <p:cNvSpPr/>
          <p:nvPr/>
        </p:nvSpPr>
        <p:spPr>
          <a:xfrm>
            <a:off x="5867280" y="5084640"/>
            <a:ext cx="358920" cy="1125720"/>
          </a:xfrm>
          <a:custGeom>
            <a:avLst/>
            <a:gdLst>
              <a:gd name="textAreaLeft" fmla="*/ 229320 w 358920"/>
              <a:gd name="textAreaRight" fmla="*/ 359280 w 358920"/>
              <a:gd name="textAreaTop" fmla="*/ 29160 h 1125720"/>
              <a:gd name="textAreaBottom" fmla="*/ 1096560 h 1125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Text Box 23"/>
          <p:cNvSpPr/>
          <p:nvPr/>
        </p:nvSpPr>
        <p:spPr>
          <a:xfrm>
            <a:off x="6227640" y="4869000"/>
            <a:ext cx="20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醛固酮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Text Box 24"/>
          <p:cNvSpPr/>
          <p:nvPr/>
        </p:nvSpPr>
        <p:spPr>
          <a:xfrm>
            <a:off x="6372360" y="537372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DH 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Text Box 25"/>
          <p:cNvSpPr/>
          <p:nvPr/>
        </p:nvSpPr>
        <p:spPr>
          <a:xfrm>
            <a:off x="3946680" y="2992320"/>
            <a:ext cx="321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ahoma"/>
              </a:rPr>
              <a:t>淋巴回流受阻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Text Box 26"/>
          <p:cNvSpPr/>
          <p:nvPr/>
        </p:nvSpPr>
        <p:spPr>
          <a:xfrm>
            <a:off x="6372360" y="5877000"/>
            <a:ext cx="180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心钠素</a:t>
            </a:r>
            <a:r>
              <a:rPr b="1" lang="zh-CN" sz="24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Text Box 27"/>
          <p:cNvSpPr/>
          <p:nvPr/>
        </p:nvSpPr>
        <p:spPr>
          <a:xfrm>
            <a:off x="5068440" y="5300640"/>
            <a:ext cx="60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激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变化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>
            <a:off x="3854880" y="6242040"/>
            <a:ext cx="133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肾血流重分布</a:t>
            </a:r>
            <a:r>
              <a:rPr b="0" lang="zh-CN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常见水肿的特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39280" y="1844640"/>
            <a:ext cx="8001000" cy="38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水肿液的性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漏出液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(transudate)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渗出液（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exudat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皮下水肿的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全身性水肿的分布特点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力效应 ，组织结构特点 ，局部血流动力学特点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灯片编号占位符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5E1861-08EF-41EF-9369-CBB2ACE0AAD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914400" y="22860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体液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Body fluid)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3886200" y="2057400"/>
            <a:ext cx="469800" cy="1515960"/>
          </a:xfrm>
          <a:custGeom>
            <a:avLst/>
            <a:gdLst>
              <a:gd name="textAreaLeft" fmla="*/ 300240 w 469800"/>
              <a:gd name="textAreaRight" fmla="*/ 470160 w 469800"/>
              <a:gd name="textAreaTop" fmla="*/ 39240 h 1515960"/>
              <a:gd name="textAreaBottom" fmla="*/ 1476720 h 1515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4500720" y="1773360"/>
            <a:ext cx="1215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水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 Box 7"/>
          <p:cNvSpPr/>
          <p:nvPr/>
        </p:nvSpPr>
        <p:spPr>
          <a:xfrm>
            <a:off x="4356000" y="3284640"/>
            <a:ext cx="11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AutoShape 8"/>
          <p:cNvSpPr/>
          <p:nvPr/>
        </p:nvSpPr>
        <p:spPr>
          <a:xfrm>
            <a:off x="5435640" y="2852640"/>
            <a:ext cx="431640" cy="1225800"/>
          </a:xfrm>
          <a:custGeom>
            <a:avLst/>
            <a:gdLst>
              <a:gd name="textAreaLeft" fmla="*/ 275760 w 431640"/>
              <a:gd name="textAreaRight" fmla="*/ 432000 w 431640"/>
              <a:gd name="textAreaTop" fmla="*/ 31680 h 1225800"/>
              <a:gd name="textAreaBottom" fmla="*/ 1194120 h 122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6012000" y="2708280"/>
            <a:ext cx="187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Text Box 10"/>
          <p:cNvSpPr/>
          <p:nvPr/>
        </p:nvSpPr>
        <p:spPr>
          <a:xfrm>
            <a:off x="5940360" y="3645000"/>
            <a:ext cx="20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非电解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体液的化学成分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90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有利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稀释毒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运送抗体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</a:rPr>
              <a:t>不利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细胞营养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Times New Roman"/>
              </a:rPr>
              <a:t>组织器官功能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4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水肿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治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对症处理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防止并发症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表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-2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主要水钠代谢紊乱的特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1717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250920" y="1413000"/>
          <a:ext cx="8353440" cy="4884480"/>
        </p:xfrm>
        <a:graphic>
          <a:graphicData uri="http://schemas.openxmlformats.org/drawingml/2006/table">
            <a:tbl>
              <a:tblPr/>
              <a:tblGrid>
                <a:gridCol w="1384200"/>
                <a:gridCol w="1384200"/>
                <a:gridCol w="1463760"/>
                <a:gridCol w="1241280"/>
                <a:gridCol w="1495440"/>
                <a:gridCol w="1384560"/>
              </a:tblGrid>
              <a:tr h="734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低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高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等渗性脱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中毒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原因机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丢失只补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失水过多饮水不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大量等渗液丢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ADH↑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或肾功能降↓者摄水过多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管或体内外液体交换失衡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体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外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细胞内液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清钠浓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血浆渗透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↑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↓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临床特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休克，重症脱水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口渴，脱水热，中枢神经系统功能紊乱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介于高渗和低渗性脱水之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脑水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主要治疗原则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高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水为主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兼顾补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补等渗溶液为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轻症停止补水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重症脱水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限制钠水的摄入，适当利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861480" y="6380640"/>
            <a:ext cx="258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↓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低于正常值   ↑于正常值  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正常   </a:t>
            </a: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钾平衡及钾代谢紊乱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d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的生理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维持细胞新陈代谢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保持细胞静息膜电位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调节细胞内外的渗透压和酸碱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2" dur="50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3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3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3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6" dur="500"/>
                                        <p:tgtEl>
                                          <p:spTgt spid="3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9" dur="500"/>
                                        <p:tgtEl>
                                          <p:spTgt spid="3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2" dur="500"/>
                                        <p:tgtEl>
                                          <p:spTgt spid="3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一）钾的生理功能和钾平衡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平衡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来源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食物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去路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：肾排泄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90%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1900" spc="-1" strike="noStrike">
                <a:solidFill>
                  <a:srgbClr val="000000"/>
                </a:solidFill>
                <a:latin typeface="Verdana"/>
              </a:rPr>
              <a:t>多吃多排，少吃少排，不吃也排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”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           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3" dur="indefinite" restart="never" nodeType="tmRoot">
          <p:childTnLst>
            <p:seq>
              <p:cTn id="544" dur="indefinite" nodeType="mainSeq">
                <p:childTnLst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9" dur="500"/>
                                        <p:tgtEl>
                                          <p:spTgt spid="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4" dur="500"/>
                                        <p:tgtEl>
                                          <p:spTgt spid="3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3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3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3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6" dur="500"/>
                                        <p:tgtEl>
                                          <p:spTgt spid="3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1" dur="500"/>
                                        <p:tgtEl>
                                          <p:spTgt spid="38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298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钾平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（二）血钾平衡的调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ts val="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钾的跨细胞转移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激素的作用 （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α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受体 ，胰岛素 ），酸碱平衡状态，渗透压，物质代谢状况 ，运动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肾对钾排泄的调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 algn="just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影响远曲小管、集合小管排钾的调节因素 （细胞外液的钾浓度 ，醛固酮 ，远曲小管和集合管中尿液的流速和流 ，肾小管细胞管腔面跨膜电位，酸碱平衡状态 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结肠的排钾功能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3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二、钾代谢障碍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一</a:t>
            </a: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Arial"/>
                <a:ea typeface="Arial"/>
              </a:rPr>
              <a:t>低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lt;3.5mmol/L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，称为低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o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摄入不足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排出过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消化道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肾丢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长期大量的使用髓袢或噻嗪类利尿剂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肾小管性酸中毒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盐皮质激素过多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渗透性利尿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镁缺失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经皮肤丢失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体液的渗透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rystalloid osmotic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钾、钠等离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胶体渗透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colloid  osmotic  pressure)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：由蛋白质等大分子形成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体液的渗透压与微粒数目有关，而与颗粒大小、电荷或质量无关。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钾向细胞内转移增多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碱中毒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胰岛素使用过多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β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上腺素能受体活动增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某些毒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低钾血症型周期性瘫痪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39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中枢神经系统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4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静息电位负值增大使兴奋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影响糖代谢，使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TP 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脑细胞膜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ATP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酶活性</a:t>
            </a:r>
            <a:r>
              <a:rPr b="1" lang="zh-CN" sz="23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37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骨骼肌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骨骼肌的影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5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表现：骨骼肌和胃肠道平滑肌肌无力、肌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机制：超级化阻滞引起肌细胞兴奋性降低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6" name="Picture 6" descr="锋电位"/>
          <p:cNvPicPr/>
          <p:nvPr/>
        </p:nvPicPr>
        <p:blipFill>
          <a:blip r:embed="rId2"/>
          <a:stretch/>
        </p:blipFill>
        <p:spPr>
          <a:xfrm>
            <a:off x="5940360" y="1268280"/>
            <a:ext cx="2381400" cy="281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0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39280" y="206028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血管系统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增高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先增强后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2"/>
          <a:stretch/>
        </p:blipFill>
        <p:spPr>
          <a:xfrm>
            <a:off x="6084720" y="2349360"/>
            <a:ext cx="2556000" cy="29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3928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肾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远曲小管上皮细胞对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DH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反应性降低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髓质渗透压梯度的形成障碍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小管上皮细胞肿胀、空泡变性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10920" y="1915920"/>
            <a:ext cx="8181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缺钾和低钾血症引起代谢性碱中毒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2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远曲小管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减少，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交换增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细胞内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向细胞外释出，细胞外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转移入细胞内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肾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和重吸收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HCO</a:t>
            </a:r>
            <a:r>
              <a:rPr b="0" lang="en-US" sz="2100" spc="-1" strike="noStrike" baseline="-25000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100" spc="-1" strike="noStrike" baseline="30000">
                <a:solidFill>
                  <a:srgbClr val="000000"/>
                </a:solidFill>
                <a:latin typeface="Verdana"/>
              </a:rPr>
              <a:t>-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增多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24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反常性酸性尿”（</a:t>
            </a:r>
            <a:r>
              <a:rPr b="1" lang="en-US" sz="2400" spc="-1" strike="noStrike">
                <a:solidFill>
                  <a:srgbClr val="3333ff"/>
                </a:solidFill>
                <a:latin typeface="Verdana"/>
              </a:rPr>
              <a:t>paradoxial acidic urine</a:t>
            </a:r>
            <a:r>
              <a:rPr b="1" lang="zh-CN" sz="2400" spc="-1" strike="noStrike">
                <a:solidFill>
                  <a:srgbClr val="3333ff"/>
                </a:solidFill>
                <a:latin typeface="Verdana"/>
              </a:rPr>
              <a:t>）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   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低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539280" y="2133360"/>
            <a:ext cx="800100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消除病因，积极治疗原发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补钾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  “</a:t>
            </a:r>
            <a:r>
              <a:rPr b="0" lang="zh-CN" sz="3000" spc="-1" strike="noStrike">
                <a:solidFill>
                  <a:srgbClr val="3333ff"/>
                </a:solidFill>
                <a:latin typeface="宋体"/>
              </a:rPr>
              <a:t>最好口服，缓慢滴注，见尿给钾”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)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血清钾浓度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&gt;5.5mmol/L,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称为高钾血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Arial"/>
              </a:rPr>
              <a:t>(hyperkalemia)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原因和机制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输入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肾排钾减少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钾移出细胞外过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酸中毒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组织缺氧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血糖合并胰岛素不足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量溶血和组织坏死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高钾血症型周期性麻痹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</a:t>
            </a:r>
            <a:r>
              <a:rPr b="0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药物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539280" y="1988640"/>
            <a:ext cx="800100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神经和肌肉组织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急性高钾血症：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轻症 ：肌肉疼痛、肌震颤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重症 ：去极化阻滞造成的肌无力、麻痹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60000"/>
              </a:lnSpc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慢性高钾血症 ：很少症状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D2DC-C686-4420-A33A-298784232AE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68360" y="1844280"/>
            <a:ext cx="8477280" cy="425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82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Times New Roman"/>
              </a:rPr>
              <a:t>分布特点：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细胞内液与细胞外液在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电解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差异很大（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内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K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 +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  <a:ea typeface="Arial"/>
              </a:rPr>
              <a:t>为主，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细胞外液 </a:t>
            </a:r>
            <a:r>
              <a:rPr b="0" lang="en-US" sz="2000" spc="-1" strike="noStrike">
                <a:solidFill>
                  <a:srgbClr val="ff0066"/>
                </a:solidFill>
                <a:latin typeface="Verdana"/>
                <a:ea typeface="Arial"/>
              </a:rPr>
              <a:t>Na</a:t>
            </a:r>
            <a:r>
              <a:rPr b="0" lang="en-US" sz="2000" spc="-1" strike="noStrike" baseline="30000">
                <a:solidFill>
                  <a:srgbClr val="ff0066"/>
                </a:solidFill>
                <a:latin typeface="Verdana"/>
                <a:ea typeface="Arial"/>
              </a:rPr>
              <a:t>+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为主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组织间液和血液之间电解质成分相同，蛋白等</a:t>
            </a:r>
            <a:r>
              <a:rPr b="1" lang="zh-CN" sz="2300" spc="-1" strike="noStrike">
                <a:solidFill>
                  <a:srgbClr val="ff0066"/>
                </a:solidFill>
                <a:latin typeface="Verdana"/>
              </a:rPr>
              <a:t>大分子物质</a:t>
            </a:r>
            <a:r>
              <a:rPr b="1" lang="zh-CN" sz="2300" spc="-1" strike="noStrike">
                <a:solidFill>
                  <a:srgbClr val="000000"/>
                </a:solidFill>
                <a:latin typeface="Verdana"/>
              </a:rPr>
              <a:t>有差异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Text Box 3"/>
          <p:cNvSpPr/>
          <p:nvPr/>
        </p:nvSpPr>
        <p:spPr>
          <a:xfrm>
            <a:off x="611280" y="812880"/>
            <a:ext cx="80643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40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心脏的影响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兴奋性先增高后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传导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自律性降低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肌收缩性减弱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电图异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心律失常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5867280" y="2349360"/>
            <a:ext cx="2854440" cy="33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对机体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3928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对酸碱平衡的影响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高钾血症常伴有代谢性酸中毒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细胞外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内移，而细胞内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移向细胞外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肾小管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增强，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H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-Na</a:t>
            </a:r>
            <a:r>
              <a:rPr b="0" lang="en-US" sz="23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交换减弱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“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反常性碱性尿”（</a:t>
            </a:r>
            <a:r>
              <a:rPr b="0" lang="en-US" sz="3000" spc="-1" strike="noStrike">
                <a:solidFill>
                  <a:srgbClr val="3333ff"/>
                </a:solidFill>
                <a:latin typeface="Verdana"/>
              </a:rPr>
              <a:t>paradoxial alkaline urine</a:t>
            </a:r>
            <a:r>
              <a:rPr b="0" lang="zh-CN" sz="3000" spc="-1" strike="noStrike">
                <a:solidFill>
                  <a:srgbClr val="3333ff"/>
                </a:solidFill>
                <a:latin typeface="Verdana"/>
              </a:rPr>
              <a:t>）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高钾血症防治的病理生理基础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消除病因，积极治疗原发病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进入细胞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提高细胞外的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H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及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Na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浓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胰岛素促进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进入细胞内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钙盐拮抗钾的心肌毒性作用。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限制钾的摄入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促进钾的排出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阳离子交换树脂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促进钾从泌尿道排出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透析疗法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病例分析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0920" y="1989000"/>
            <a:ext cx="8001000" cy="39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患儿，男，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2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岁。全身水肿一周，发病前曾反复上呼吸道感染，咽痛，咳嗽，发热最高达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8.5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℃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。水肿开始出现于面部，后波及全身。尿少。患儿既往体健，无肝疾病、高血压、慢性胃肠道疾病史。体检可见面部及全身凹陷性水肿，血压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30/100mmHg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，余未见异常结果。血浆蛋白质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6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在正常范围内）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红细胞压积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5ml%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低于正常值）。水肿液蛋白含量为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4.5g/L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（正常值范围内）。尿液检查可见管型及大量红细胞，尿蛋白（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+++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）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该患儿出现何种类型的水肿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试分析该患儿水肿产生的机制。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2100" spc="-1" strike="noStrike">
                <a:solidFill>
                  <a:srgbClr val="000000"/>
                </a:solidFill>
                <a:latin typeface="Verdana"/>
              </a:rPr>
              <a:t>如果患儿水肿进一步发展可能对机体产生哪些不利影响？为什么？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9736-4A84-4004-9550-8465B7AC88AA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溶质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溶质差异的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机制：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66"/>
                </a:solidFill>
                <a:latin typeface="Verdana"/>
              </a:rPr>
              <a:t>细胞膜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以弥散方式通过，故细胞内外液电解质差异很大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ff0066"/>
                </a:solidFill>
                <a:latin typeface="Verdana"/>
              </a:rPr>
              <a:t>毛细血管壁</a:t>
            </a:r>
            <a:r>
              <a:rPr b="0" lang="zh-CN" sz="2700" spc="-1" strike="noStrike">
                <a:solidFill>
                  <a:srgbClr val="000000"/>
                </a:solidFill>
                <a:latin typeface="Verdana"/>
              </a:rPr>
              <a:t>：</a:t>
            </a:r>
            <a:r>
              <a:rPr b="1" lang="zh-CN" sz="2200" spc="-1" strike="noStrike">
                <a:solidFill>
                  <a:srgbClr val="000000"/>
                </a:solidFill>
                <a:latin typeface="Verdana"/>
              </a:rPr>
              <a:t>电解质自由通过，大分子物质不能自由通过故血液与组织间隙间电解质成分相同，大分子物质有差异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1" name="Picture 5" descr="体液分布"/>
          <p:cNvPicPr/>
          <p:nvPr/>
        </p:nvPicPr>
        <p:blipFill>
          <a:blip r:embed="rId2"/>
          <a:stretch/>
        </p:blipFill>
        <p:spPr>
          <a:xfrm>
            <a:off x="6300720" y="4797360"/>
            <a:ext cx="2592360" cy="15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灯片编号占位符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9A50-A4CB-4704-800F-86456AC39DEC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539640" y="1773360"/>
            <a:ext cx="8406000" cy="180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</a:rPr>
              <a:t>水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细胞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细胞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血管内外水交换</a:t>
            </a:r>
            <a:r>
              <a:rPr b="0" lang="zh-CN" sz="2500" spc="-1" strike="noStrike">
                <a:solidFill>
                  <a:srgbClr val="000000"/>
                </a:solidFill>
                <a:latin typeface="Verdana"/>
              </a:rPr>
              <a:t>：主要取决于血管内外</a:t>
            </a:r>
            <a:r>
              <a:rPr b="1" lang="zh-CN" sz="2500" spc="-1" strike="noStrike">
                <a:solidFill>
                  <a:srgbClr val="ff0066"/>
                </a:solidFill>
                <a:latin typeface="Verdana"/>
              </a:rPr>
              <a:t>胶体</a:t>
            </a:r>
            <a:r>
              <a:rPr b="1" lang="zh-CN" sz="2500" spc="-1" strike="noStrike">
                <a:solidFill>
                  <a:srgbClr val="000000"/>
                </a:solidFill>
                <a:latin typeface="Verdana"/>
              </a:rPr>
              <a:t>渗透压差   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971640" y="766800"/>
            <a:ext cx="763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四、体液成分的分布及影响因素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755640" y="3645000"/>
            <a:ext cx="6500880" cy="825480"/>
          </a:xfrm>
          <a:prstGeom prst="rect">
            <a:avLst/>
          </a:prstGeom>
          <a:solidFill>
            <a:srgbClr val="ccffff"/>
          </a:solidFill>
          <a:ln cap="sq"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血浆渗透压为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80-310 mmol/L 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在这个范围之内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等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低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低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；高于这个范围称</a:t>
            </a:r>
            <a:r>
              <a:rPr b="1" lang="zh-CN" sz="2400" spc="-1" strike="noStrike">
                <a:solidFill>
                  <a:srgbClr val="ff0066"/>
                </a:solidFill>
                <a:latin typeface="Verdana"/>
              </a:rPr>
              <a:t>高渗</a:t>
            </a:r>
            <a:r>
              <a:rPr b="1" lang="zh-CN" sz="24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6" name="Picture 5" descr="体液分布"/>
          <p:cNvPicPr/>
          <p:nvPr/>
        </p:nvPicPr>
        <p:blipFill>
          <a:blip r:embed="rId2"/>
          <a:stretch/>
        </p:blipFill>
        <p:spPr>
          <a:xfrm>
            <a:off x="6564240" y="5013360"/>
            <a:ext cx="2579760" cy="168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08T06:48:13Z</dcterms:created>
  <dc:creator>glfeng</dc:creator>
  <dc:description/>
  <dc:language>en-US</dc:language>
  <cp:lastModifiedBy>hzg</cp:lastModifiedBy>
  <dcterms:modified xsi:type="dcterms:W3CDTF">2014-04-22T02:10:38Z</dcterms:modified>
  <cp:revision>613</cp:revision>
  <dc:subject/>
  <dc:title>第三章   水、电解质代谢障碍 (Disturbance of water and electrolyte  metabolism)</dc:title>
</cp:coreProperties>
</file>